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png" ContentType="image/png"/>
  <Override PartName="/ppt/media/image3.wmf" ContentType="image/x-wmf"/>
  <Override PartName="/ppt/media/image5.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5917-04CF-4547-B781-9344CBE09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marketing of employment information to immigrants requires knowledge of about where immigrants look fo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ooked for research in this area and there is not much. I will share with you the little information that w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d to find gaps between where immigrants look for information and the channels that have actually been used to channel employment information to immi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language media is very useful to reach the Chinese and South Asian communities. But it would be important to also know the media habits of all immigrant communities. Habits vary from one community to another and we do not have all that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V is a viable channel for targeting employment to Chinese and south Asian immigrant communities. But this result could vary from community to community. A more complete picture of this variability would be useful if we had all the inform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gles was contracted to use a multimedia and multilingual approach to promote 3 settlement servic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ASI’s website settlement.org (A comprehensive website for newcomer informat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wcomer Information Centres (3 Toronto, 2 Mississauga, 2 Brampton, 1 Caledon, 1 Oakville and 1 Ottawa)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dhelp Information Services 211 Toronto &amp; 211 Peel (24/7 multi-language phone referral servic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mpaign consisted of: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ing and placing ads in 22 ethnic publication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cing ads on the websites of 14 of the 22 ethnic publications contracted </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ing, translating and distributing brochures throughout the GTA and in the Ottawa area where the ethnic publications are circulated and where the targeted newcomer communities liv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rketing  settlement information in ethnic languages and through multiple media proved very effective as all 3 services saw significant growth in traffic within the 6 months of the campaign.</a:t>
            </a:r>
            <a:endParaRPr b="0" lang="en-US" sz="9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were more than 6.4 million impressions from the combined circulation figures of all 22 ethnic publications over the six month perio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10 Newcomer Information Centres (NIC) posted significant increas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March/10 the Toronto sites were the highest on record for new clients ser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Ottawa site saw a 100% increase in new and repeat clients for December/0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ix NIC sites operated by Centre for Education and Training (CET) showed dramatic increases of over 100% in October/09 and 110% in November/09 compared to the year befo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dhelp information Services 211 Toronto posted an 18% increase in monthly calls in March/10 compared to February/10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1 Peel indicated a 110% increase in November/09 compared to November/08</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ASI’s website www.settlement.org showed a 40% increase in unique users (first time users) in March/10 compared to December/0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Bridger is the only internet-based social network of immigrants that was formally studied. This is a moderated email network of Chinese immigrants exchanging information on various topics of common interest to the community. The study found it very useful in providing Chinese immigrants with useful settlemen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ecdotal evidence of the proliferation of social networking sites for newcomer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no and sector specific networks are especially useful for targeting occupation specific information through the most effective channels and using the most effective langu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shows the percentages of various settlement information found in media content by type of media. For 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nic media carried 5%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stream media carried about 13%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urhood media carried about 12% employmen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very little employment information is provided thru all media types, compared to all other settlement information. The little employment  content available was channeled mainly through Mainstream and Neibourhood (local geographical area) media. Very little employment content was channeled through ethnic media (a more trusted channel). This is a disconnect between where immigrants look for employment information and where it can  actually be found.</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shows the percentages of various settlement information found in media content by media technology. For 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V contained less than 5%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contained 5%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spapers contained slightly more than 5%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contained 8% employment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ared to other forms of settlement information, employment information is the least in all media technologies. </a:t>
            </a:r>
            <a:r>
              <a:rPr b="0" lang="en-US" sz="600" spc="-1" strike="noStrike">
                <a:solidFill>
                  <a:srgbClr val="000000"/>
                </a:solidFill>
                <a:latin typeface="Arial"/>
              </a:rPr>
              <a:t>Of the little employment information made available, most of it was channeled through websites.</a:t>
            </a:r>
            <a:r>
              <a:rPr b="0" lang="en-US" sz="800" spc="-1" strike="noStrike">
                <a:solidFill>
                  <a:srgbClr val="000000"/>
                </a:solidFill>
                <a:latin typeface="Arial"/>
              </a:rPr>
              <a:t>  As we have seen, more recent statistics show that 78% of new immigrants use the internet. Therefore the internet is a good tool for channeling employment information to immigrants.</a:t>
            </a: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Effectiveness of Advertising Channel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wspaper/Magazin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8% Metro paper (expensive but most cost-effective with bul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 calls from Magazines (Canadian Newcomer and Canadian Immigrant magazines) but their online advertising did work (see below).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2% other papers but surprisingly, not many calls from ethnic papers (maybe not enough advertising ther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ith papers, calls mainly came in on behalf of someone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 Bus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3% Subway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8% bill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6% bus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 online, including PSAs (Canadian Newcomer Magazine Online and Google, mai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4% TV/ra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Here we note that the traditional channels of advertising ( The transit channels and the newspapers are still very effectiv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itional advertising combined with a multimedia and multilingual approach is very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ating materials is a daunting task and translated materials are few. But we now know from the Jangles promotion that in-language advertising is very effect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y shows an example of  a mismatch between where immigrants look for employment information and where this information could actually be fou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immigrants went to ethnic media to look for employment information, the information had been channeled through mainstream medi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regard we gathered information arou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mmigrants look  for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mmigrant demographics are aware of employment information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mmigrant communities go where for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has employment information been channeled to immig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at are the promising practic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years and more in Canada and immigrants are still looking for employment information. That brings to doubt the effectiveness of their main source of information: Family an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ould employment information be channeled to employed immigrants? Strategies may need to be developed around this ques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eris study – a  geographical mapping of settlement services in the York region found that New immigrants’ awareness of employment services depended on their demographic and other characteristic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understand cultural demographics in order to target employment information more effectively. Fewer people from East and South Asian immigrant communities had heard about certain service providers in the York Region probably because these services were not advertised in the media of their preferenc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what this Toronto Immigrant Employment Data Initiative study is showing us  we now know that  employment information from family and friends does not result in well paying jobs and most immigrants fall in this category. The questions to ask then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immigrants trust this source of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is source of information be made reli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make immigrants trust other more reliable sources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nd other questions could be answered through a more comprehensive research effor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IGR Communications and Marketing Working group shared some promising strategies and practices that are currently being implemented in their agencies. There is anecdotal evidence that these initiatives are being effectiv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most of these new initiatives have not yet been formally evaluated, anecdotal evidence suggests that they are very prom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ordinated approach to these promising initiatives could be more effective in bringing employment information to where immigrants a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more work is needed to shed light on sources of information for various immigrant demographic and ethnic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consideration for the Communications and Marketing working group could be undertaking comprehensive research into these matters as a joint initi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s Canada: LSIC, 2003, page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s for Change Annual Report 2009/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internet-based social support networks in immigrant settlement – a case study of the NewBridger, Julie Xiaoping Lin et al,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ment Programming throuogh the media, Karim H. Karim, Mahmoud Eid and Boulou Ebanda de B’beri,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Immigrants’ Awareness of, Access to, Use of and Satisfaction with Settlement services in the York Region, Lucia Lo et al, 2010 CERIS working paper number 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ment in the workplace, the settlement needs of employed newcomers, an exploratory study, R J Sparks Consulting Inc. and WGW Services, sponsored by COSTI Immigrant Services,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ty Initiative, March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s of the settlement.org evaluation survey, Arnold love, June 15,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rku.ca/tiedi/doc/AnalyticalReport7.pdf</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SIC results here suggest that close to 70% of new immigrants got their employment information from friends relatives and household memb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cent information was from Skills for Change an agency that provides employment support services to immigrants. They  asked their clients how they heard about their services and found that 51% of their 14 000 + clients had heard about them from a friend, a result still consistent with the LSIC finding. This is the most recent information we have about where immigrants get their employment information fro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IC carried out a  Learn Speak Live (LSL) campaign earlier this year( March to May 201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t incorporated a lot of evaluation components to gage the effectiveness of different approaches of the campaig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ectiveness was measured by asking callers to disclose their  source of information about learn speak l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campaign LSL experienced a spike in hits to </a:t>
            </a:r>
            <a:r>
              <a:rPr b="0" lang="en-CA" sz="1000" spc="-1" strike="noStrike">
                <a:solidFill>
                  <a:srgbClr val="000000"/>
                </a:solidFill>
                <a:latin typeface="Arial"/>
              </a:rPr>
              <a:t>1.3 million page clic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5 phone numbers were used with the advertis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one for all TV/Radio a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One for all print advertising (mainly newspaper and magaz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And 3 for regional advertising (one each for Peel, Toronto and York), which includes transit advertising and the online promo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at we want to note at this stage is the fact that 40% of the calls were made on behalf of friend or spouse. This is also evidence that immigrants still rely on information from friends and family. In this particular case, I suspect that immigrants may be relying on family and friends for information because of language or cultural issues. A better understanding of the reasons why one might want another person to call on their behalf might help information marketers to target information to where it is needed mo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Most popular time to visit site  was evening and early morning (1-3 am) (so likely  that visitors mainly working) That tells us that working immigrants are still looking for employment information. They could be under employ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information shows that immigrants get a lot of their information from websites. Although there is an obvious selection bias with this data in the sense that all people surveyed were users of a website responding to a survey on the website, the results show a significant number of respondents got their settlement information from websi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ey preferred using websites , 78% said websites were faster and Reli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ger they stay the more immigrants seek information from the interne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228600" y="228600"/>
            <a:ext cx="8686800" cy="1295280"/>
          </a:xfrm>
          <a:prstGeom prst="rect">
            <a:avLst/>
          </a:prstGeom>
          <a:solidFill>
            <a:srgbClr val="e3e3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380880" y="304920"/>
            <a:ext cx="1828800" cy="1096920"/>
          </a:xfrm>
          <a:prstGeom prst="rect">
            <a:avLst/>
          </a:prstGeom>
          <a:ln w="0">
            <a:noFill/>
          </a:ln>
        </p:spPr>
      </p:pic>
      <p:sp>
        <p:nvSpPr>
          <p:cNvPr id="4" name=""/>
          <p:cNvSpPr/>
          <p:nvPr/>
        </p:nvSpPr>
        <p:spPr>
          <a:xfrm>
            <a:off x="152280" y="6400800"/>
            <a:ext cx="8686800" cy="276480"/>
          </a:xfrm>
          <a:prstGeom prst="rect">
            <a:avLst/>
          </a:prstGeom>
          <a:solidFill>
            <a:srgbClr val="5481c3"/>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toneSans"/>
              </a:rPr>
              <a:t>New Realities. New Opportunitie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1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
          <p:cNvSpPr/>
          <p:nvPr/>
        </p:nvSpPr>
        <p:spPr>
          <a:xfrm>
            <a:off x="228600" y="228600"/>
            <a:ext cx="8686800" cy="1295280"/>
          </a:xfrm>
          <a:prstGeom prst="rect">
            <a:avLst/>
          </a:prstGeom>
          <a:solidFill>
            <a:srgbClr val="e3e3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 name="" descr=""/>
          <p:cNvPicPr/>
          <p:nvPr/>
        </p:nvPicPr>
        <p:blipFill>
          <a:blip r:embed="rId2"/>
          <a:stretch/>
        </p:blipFill>
        <p:spPr>
          <a:xfrm>
            <a:off x="380880" y="304920"/>
            <a:ext cx="1828800" cy="1096920"/>
          </a:xfrm>
          <a:prstGeom prst="rect">
            <a:avLst/>
          </a:prstGeom>
          <a:ln w="0">
            <a:noFill/>
          </a:ln>
        </p:spPr>
      </p:pic>
      <p:sp>
        <p:nvSpPr>
          <p:cNvPr id="44" name=""/>
          <p:cNvSpPr/>
          <p:nvPr/>
        </p:nvSpPr>
        <p:spPr>
          <a:xfrm>
            <a:off x="152280" y="6400800"/>
            <a:ext cx="8686800" cy="276480"/>
          </a:xfrm>
          <a:prstGeom prst="rect">
            <a:avLst/>
          </a:prstGeom>
          <a:solidFill>
            <a:srgbClr val="5481c3"/>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toneSans"/>
              </a:rPr>
              <a:t>New Realities. New Opportunities.</a:t>
            </a:r>
            <a:endParaRPr b="0" lang="en-US" sz="1200" spc="-1" strike="noStrike">
              <a:solidFill>
                <a:srgbClr val="000000"/>
              </a:solidFill>
              <a:latin typeface="Arial"/>
            </a:endParaRPr>
          </a:p>
        </p:txBody>
      </p:sp>
      <p:pic>
        <p:nvPicPr>
          <p:cNvPr id="45" name="" descr=""/>
          <p:cNvPicPr/>
          <p:nvPr/>
        </p:nvPicPr>
        <p:blipFill>
          <a:blip r:embed="rId3"/>
          <a:stretch/>
        </p:blipFill>
        <p:spPr>
          <a:xfrm>
            <a:off x="228600" y="1523880"/>
            <a:ext cx="8683560" cy="7146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0.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0.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333000"/>
            <a:ext cx="7772400" cy="136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1" name="PlaceHolder 2"/>
          <p:cNvSpPr>
            <a:spLocks noGrp="1"/>
          </p:cNvSpPr>
          <p:nvPr>
            <p:ph type="subTitle"/>
          </p:nvPr>
        </p:nvSpPr>
        <p:spPr>
          <a:xfrm>
            <a:off x="228600" y="2742840"/>
            <a:ext cx="8569440" cy="259092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 on Marketing Employment Information to Immigrants</a:t>
            </a:r>
            <a:br>
              <a:rPr sz="3200"/>
            </a:br>
            <a:endParaRPr b="0" lang="en-US" sz="32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findings from past and recent rese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and South Asians are heavy consumers of in-language medi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 TV networks/digital stations that have some multilingual coverage, 47 radio stations that represent over 70 different ethnic groups, 195 newspapers/magazines for 44 different cultural groups, including some dailys/weekly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is Diversite – Diversity Initiative</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adian Internet Use Survey, 2007 (Statistics Canada)</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In-language media is a priority channel for marketing information to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685800" y="2057400"/>
            <a:ext cx="7696080" cy="2986200"/>
          </a:xfrm>
          <a:prstGeom prst="rect">
            <a:avLst/>
          </a:prstGeom>
          <a:ln w="0">
            <a:noFill/>
          </a:ln>
        </p:spPr>
      </p:pic>
      <p:sp>
        <p:nvSpPr>
          <p:cNvPr id="122" name=""/>
          <p:cNvSpPr/>
          <p:nvPr/>
        </p:nvSpPr>
        <p:spPr>
          <a:xfrm>
            <a:off x="4114800" y="5867280"/>
            <a:ext cx="4648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cultural Imperative - Environics</a:t>
            </a:r>
            <a:endParaRPr b="0" lang="en-US" sz="1800" spc="-1" strike="noStrike">
              <a:solidFill>
                <a:srgbClr val="000000"/>
              </a:solidFill>
              <a:latin typeface="Arial"/>
            </a:endParaRPr>
          </a:p>
        </p:txBody>
      </p:sp>
      <p:sp>
        <p:nvSpPr>
          <p:cNvPr id="123"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language media is a priority channel for marketing information to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language media is a priority channel for marketing information to immigrants.</a:t>
            </a:r>
            <a:endParaRPr b="0" lang="en-US" sz="2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ffect of Ethnic Media on Marketing Information to Immigra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gles Productions was contracted by CIC Ontario Region in August of 2009 to conduct a multimedia, multilingual campaign to promote three settlement services: Settlement.Org, 211, Newcomer Information Centr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more than 6.4 million impressions from the combined circulation figures of all 22 ethnic publications over the six month perio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mbitious approach worked: all 3 services saw significantly increased traffi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7" name="PlaceHolder 2"/>
          <p:cNvSpPr>
            <a:spLocks noGrp="1"/>
          </p:cNvSpPr>
          <p:nvPr>
            <p:ph/>
          </p:nvPr>
        </p:nvSpPr>
        <p:spPr>
          <a:xfrm>
            <a:off x="304560" y="1773000"/>
            <a:ext cx="8381880" cy="3941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of Internet based informal social network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rnet based informal social networks were very useful for providi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mmigrants with the following supports:</a:t>
            </a:r>
            <a:br>
              <a:rPr sz="2000"/>
            </a:b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ocac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seling and suppor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and well-bei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and referra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entation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eation</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
          <p:cNvSpPr txBox="1"/>
          <p:nvPr/>
        </p:nvSpPr>
        <p:spPr>
          <a:xfrm>
            <a:off x="3657240" y="5791320"/>
            <a:ext cx="5257800" cy="411120"/>
          </a:xfrm>
          <a:prstGeom prst="rect">
            <a:avLst/>
          </a:prstGeom>
          <a:noFill/>
          <a:ln w="0">
            <a:noFill/>
          </a:ln>
        </p:spPr>
        <p:txBody>
          <a:bodyPr lIns="90000" rIns="90000" tIns="46800" bIns="46800" anchor="t">
            <a:norm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Bridger Study-(Julie Xiaoping Lin et al, 2010)</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0" name=""/>
          <p:cNvSpPr/>
          <p:nvPr/>
        </p:nvSpPr>
        <p:spPr>
          <a:xfrm>
            <a:off x="2819520" y="304920"/>
            <a:ext cx="6019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Peer and informal networks are important for marketing employment information to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er and informal networks are important for </a:t>
            </a:r>
            <a:r>
              <a:rPr b="1" lang="en-US" sz="2000" spc="-1" strike="noStrike">
                <a:solidFill>
                  <a:srgbClr val="000000"/>
                </a:solidFill>
                <a:latin typeface="Arial"/>
              </a:rPr>
              <a:t>	</a:t>
            </a:r>
            <a:r>
              <a:rPr b="1" lang="en-US" sz="2000" spc="-1" strike="noStrike">
                <a:solidFill>
                  <a:srgbClr val="000000"/>
                </a:solidFill>
                <a:latin typeface="Arial"/>
              </a:rPr>
              <a:t>marketing employment information to immigrants</a:t>
            </a:r>
            <a:endParaRPr b="0" lang="en-US" sz="2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EC’s PINS is a good example of immigrant peer networ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 active networks were found during TRIEC’s environmental sc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groups on the on-line direct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or so groups have an estimated electronic reach of over 30,000 memb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7% of the groups are ethno specif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6% are sector specif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s include: Engineering, Accounting, Social work, Architecture, IT, Law, Healthcare, Business Management, Food Service, Natural Sciences and Academ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476880" y="5919840"/>
            <a:ext cx="53078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fr-CA" sz="1800" spc="-1" strike="noStrike">
                <a:solidFill>
                  <a:srgbClr val="000000"/>
                </a:solidFill>
                <a:latin typeface="Arial"/>
              </a:rPr>
              <a:t>Karim H. Karim, Et al, 2007) - </a:t>
            </a:r>
            <a:r>
              <a:rPr b="0" lang="en-US" sz="1800" spc="-1" strike="noStrike">
                <a:solidFill>
                  <a:srgbClr val="000000"/>
                </a:solidFill>
                <a:latin typeface="Arial"/>
              </a:rPr>
              <a:t>Carleton University)</a:t>
            </a:r>
            <a:endParaRPr b="0" lang="en-US" sz="1800" spc="-1" strike="noStrike">
              <a:solidFill>
                <a:srgbClr val="000000"/>
              </a:solidFill>
              <a:latin typeface="Arial"/>
            </a:endParaRPr>
          </a:p>
        </p:txBody>
      </p:sp>
      <p:pic>
        <p:nvPicPr>
          <p:cNvPr id="135" name="" descr=""/>
          <p:cNvPicPr/>
          <p:nvPr/>
        </p:nvPicPr>
        <p:blipFill>
          <a:blip r:embed="rId1"/>
          <a:stretch/>
        </p:blipFill>
        <p:spPr>
          <a:xfrm>
            <a:off x="1371600" y="1676520"/>
            <a:ext cx="6477120" cy="3809880"/>
          </a:xfrm>
          <a:prstGeom prst="rect">
            <a:avLst/>
          </a:prstGeom>
          <a:ln w="0">
            <a:noFill/>
          </a:ln>
        </p:spPr>
      </p:pic>
      <p:sp>
        <p:nvSpPr>
          <p:cNvPr id="136"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Not enough employment information is being channeled through  traditional media, even less is being channeled thru ethnic me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838080" y="1447920"/>
            <a:ext cx="7417080" cy="3504960"/>
          </a:xfrm>
          <a:prstGeom prst="rect">
            <a:avLst/>
          </a:prstGeom>
          <a:ln w="0">
            <a:noFill/>
          </a:ln>
        </p:spPr>
      </p:pic>
      <p:sp>
        <p:nvSpPr>
          <p:cNvPr id="138" name=""/>
          <p:cNvSpPr txBox="1"/>
          <p:nvPr/>
        </p:nvSpPr>
        <p:spPr>
          <a:xfrm>
            <a:off x="380880" y="5029200"/>
            <a:ext cx="8229600" cy="98280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little employment information made available, most of it was channeled through websit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fr-CA" sz="1800" spc="-1" strike="noStrike">
                <a:solidFill>
                  <a:srgbClr val="000000"/>
                </a:solidFill>
                <a:latin typeface="Arial"/>
              </a:rPr>
              <a:t>Karim H. Karim, Et al, 2007) - </a:t>
            </a:r>
            <a:r>
              <a:rPr b="0" lang="en-US" sz="1800" spc="-1" strike="noStrike">
                <a:solidFill>
                  <a:srgbClr val="000000"/>
                </a:solidFill>
                <a:latin typeface="Arial"/>
              </a:rPr>
              <a:t>Carleton University</a:t>
            </a:r>
            <a:endParaRPr b="0" lang="en-US" sz="1800" spc="-1" strike="noStrike">
              <a:solidFill>
                <a:srgbClr val="000000"/>
              </a:solidFill>
              <a:latin typeface="Arial"/>
            </a:endParaRPr>
          </a:p>
        </p:txBody>
      </p:sp>
      <p:sp>
        <p:nvSpPr>
          <p:cNvPr id="139" name=""/>
          <p:cNvSpPr/>
          <p:nvPr/>
        </p:nvSpPr>
        <p:spPr>
          <a:xfrm>
            <a:off x="2666880" y="304920"/>
            <a:ext cx="60199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enough employment information is being channeled through  traditional media, even less is being channeled thru ethnic me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 Speak Live Evaluation – Information/Marketing Campaign</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ide variety of </a:t>
            </a:r>
            <a:r>
              <a:rPr b="1" lang="en-CA" sz="1600" spc="-1" strike="noStrike">
                <a:solidFill>
                  <a:srgbClr val="000000"/>
                </a:solidFill>
                <a:latin typeface="Arial"/>
              </a:rPr>
              <a:t>advertising channels</a:t>
            </a:r>
            <a:r>
              <a:rPr b="0" lang="en-CA" sz="1600" spc="-1" strike="noStrike">
                <a:solidFill>
                  <a:srgbClr val="000000"/>
                </a:solidFill>
                <a:latin typeface="Arial"/>
              </a:rPr>
              <a:t>, including TV/Radio ads, print </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dvertising, online advertising, transit advertising.</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popular time to visit site evening and early morning (1-3 am) (so likely </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visitors mainly working)</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ers to 1-800 lines:</a:t>
            </a:r>
            <a:endParaRPr b="0" lang="en-US" sz="1600" spc="-1" strike="noStrike">
              <a:solidFill>
                <a:srgbClr val="000000"/>
              </a:solidFill>
              <a:latin typeface="Arial"/>
            </a:endParaRPr>
          </a:p>
          <a:p>
            <a:pPr marL="282600" indent="-282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41% of referrals came from combined transit channels (buses, subway platforms, billboards, transit shelters)</a:t>
            </a:r>
            <a:endParaRPr b="0" lang="en-US" sz="1600" spc="-1" strike="noStrike">
              <a:solidFill>
                <a:srgbClr val="000000"/>
              </a:solidFill>
              <a:latin typeface="Arial"/>
            </a:endParaRPr>
          </a:p>
          <a:p>
            <a:pPr marL="282600" indent="-282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38% of referrals came from Metro publication.</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2600" indent="-282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 Canadian Citizens, 41% PR, 3% Refugee/Refugee Claimants, 9% Temporary Residents.</a:t>
            </a:r>
            <a:endParaRPr b="0" lang="en-US" sz="1600" spc="-1" strike="noStrike">
              <a:solidFill>
                <a:srgbClr val="000000"/>
              </a:solidFill>
              <a:latin typeface="Arial"/>
            </a:endParaRPr>
          </a:p>
          <a:p>
            <a:pPr marL="282600" indent="-282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ak average of 60 calls a day, 38 calls a day overall average, mainly Tuesdays to Thursdays.</a:t>
            </a:r>
            <a:endParaRPr b="0" lang="en-US" sz="1600" spc="-1" strike="noStrike">
              <a:solidFill>
                <a:srgbClr val="000000"/>
              </a:solidFill>
              <a:latin typeface="Arial"/>
            </a:endParaRPr>
          </a:p>
          <a:p>
            <a:pPr marL="282600" indent="-282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calling on behalf of friend or spouse.</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Traditional marketing of settlement information is still very effec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ffect of Ethnic Media on Marketing Information to Immigra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gles Productions was contracted by CIC Ontario Region in August of 2009 to conduct a multimedia, multilingual campaign to promote three settlement services: Settlement.Org, 211, Newcomer Information Centr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more than 6.4 million impressions from the combined circulation figures of all 22 ethnic publications over the six month peri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mbitious approach worked: all 3 services saw significantly increased traffi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marketing of settlement information is still very effec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There is a lack of translated materials.</a:t>
            </a:r>
            <a:endParaRPr b="0" lang="en-US" sz="2000" spc="-1" strike="noStrike">
              <a:solidFill>
                <a:srgbClr val="000000"/>
              </a:solidFill>
              <a:latin typeface="Arial"/>
            </a:endParaRPr>
          </a:p>
        </p:txBody>
      </p:sp>
      <p:sp>
        <p:nvSpPr>
          <p:cNvPr id="145" name="PlaceHolder 2"/>
          <p:cNvSpPr>
            <a:spLocks noGrp="1"/>
          </p:cNvSpPr>
          <p:nvPr>
            <p:ph/>
          </p:nvPr>
        </p:nvSpPr>
        <p:spPr>
          <a:xfrm>
            <a:off x="456840" y="1600200"/>
            <a:ext cx="845820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leton Research Conclusions</a:t>
            </a:r>
            <a:br>
              <a:rPr sz="1600"/>
            </a:b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comers want practical information on employment, health care, education and hou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insufficient information on where to go to get settlement related inform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lack of translated material on settlement related subjec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no-cultural media are looking for clear and reliable settlement information in multiple languages but cannot find i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is preferred over video and TV as it can be read repeatedl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comers gravitate to ethno-cultural media as a way to connect to the host society through a familiar mediu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comers experience difficulty in using automated services or accessing internet websites that exclusively or predominately are in English or French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
          <p:cNvSpPr txBox="1"/>
          <p:nvPr/>
        </p:nvSpPr>
        <p:spPr>
          <a:xfrm>
            <a:off x="457200" y="5791320"/>
            <a:ext cx="8229600" cy="334800"/>
          </a:xfrm>
          <a:prstGeom prst="rect">
            <a:avLst/>
          </a:prstGeom>
          <a:noFill/>
          <a:ln w="0">
            <a:noFill/>
          </a:ln>
        </p:spPr>
        <p:txBody>
          <a:bodyPr lIns="90000" rIns="90000" tIns="46800" bIns="46800" anchor="t">
            <a:normAutofit fontScale="99000"/>
          </a:bodyPr>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fr-CA" sz="1600" spc="-1" strike="noStrike">
                <a:solidFill>
                  <a:srgbClr val="000000"/>
                </a:solidFill>
                <a:latin typeface="Arial"/>
              </a:rPr>
              <a:t>Karim H. Karim, Et al, 2007) - </a:t>
            </a:r>
            <a:r>
              <a:rPr b="0" lang="en-US" sz="1600" spc="-1" strike="noStrike">
                <a:solidFill>
                  <a:srgbClr val="000000"/>
                </a:solidFill>
                <a:latin typeface="Arial"/>
              </a:rPr>
              <a:t>Carleton Univers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6668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Key Questions</a:t>
            </a:r>
            <a:endParaRPr b="0" lang="en-US" sz="2000" spc="-1" strike="noStrike">
              <a:solidFill>
                <a:srgbClr val="000000"/>
              </a:solidFill>
              <a:latin typeface="Arial"/>
            </a:endParaRPr>
          </a:p>
        </p:txBody>
      </p:sp>
      <p:sp>
        <p:nvSpPr>
          <p:cNvPr id="93" name="PlaceHolder 2"/>
          <p:cNvSpPr>
            <a:spLocks noGrp="1"/>
          </p:cNvSpPr>
          <p:nvPr>
            <p:ph/>
          </p:nvPr>
        </p:nvSpPr>
        <p:spPr>
          <a:xfrm>
            <a:off x="457200" y="1904760"/>
            <a:ext cx="8229600" cy="3809880"/>
          </a:xfrm>
          <a:prstGeom prst="rect">
            <a:avLst/>
          </a:prstGeom>
          <a:noFill/>
          <a:ln w="0">
            <a:noFill/>
          </a:ln>
        </p:spPr>
        <p:txBody>
          <a:bodyPr lIns="90000" rIns="90000" tIns="46800" bIns="46800" anchor="t">
            <a:normAutofit fontScale="96000"/>
          </a:bodyPr>
          <a:p>
            <a:pPr marL="585000" indent="-5850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do immigrants get employment information?</a:t>
            </a:r>
            <a:endParaRPr b="0" lang="en-US" sz="2000" spc="-1" strike="noStrike">
              <a:solidFill>
                <a:srgbClr val="000000"/>
              </a:solidFill>
              <a:latin typeface="Arial"/>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5000" indent="-5850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emographic characteristics of immigrants determine their level of awareness of employment information or settlement information in general?</a:t>
            </a:r>
            <a:endParaRPr b="0" lang="en-US" sz="2000" spc="-1" strike="noStrike">
              <a:solidFill>
                <a:srgbClr val="000000"/>
              </a:solidFill>
              <a:latin typeface="Arial"/>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5000" indent="-5850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media habits of immigrants?</a:t>
            </a:r>
            <a:endParaRPr b="0" lang="en-US" sz="2000" spc="-1" strike="noStrike">
              <a:solidFill>
                <a:srgbClr val="000000"/>
              </a:solidFill>
              <a:latin typeface="Arial"/>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5000" indent="-5850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edia channels have been used to market employment information to immigrants and how effective have they been?</a:t>
            </a:r>
            <a:endParaRPr b="0" lang="en-US" sz="2000" spc="-1" strike="noStrike">
              <a:solidFill>
                <a:srgbClr val="000000"/>
              </a:solidFill>
              <a:latin typeface="Arial"/>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5000" indent="-5850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ould employment information be better channeled to immigrants? </a:t>
            </a:r>
            <a:endParaRPr b="0" lang="en-US" sz="2000" spc="-1" strike="noStrike">
              <a:solidFill>
                <a:srgbClr val="000000"/>
              </a:solidFill>
              <a:latin typeface="Arial"/>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8. Immigrants trust and access ethno-cultural medi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8" name="PlaceHolder 2"/>
          <p:cNvSpPr>
            <a:spLocks noGrp="1"/>
          </p:cNvSpPr>
          <p:nvPr>
            <p:ph/>
          </p:nvPr>
        </p:nvSpPr>
        <p:spPr>
          <a:xfrm>
            <a:off x="0" y="1600200"/>
            <a:ext cx="8686800" cy="4572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comers gravitate to ethno-cultural media as a way to connect to the host society through a familiar medium (</a:t>
            </a:r>
            <a:r>
              <a:rPr b="0" lang="fr-CA" sz="1800" spc="-1" strike="noStrike">
                <a:solidFill>
                  <a:srgbClr val="000000"/>
                </a:solidFill>
                <a:latin typeface="Arial"/>
              </a:rPr>
              <a:t>Karim H. Karim, Et al, 2007) - </a:t>
            </a:r>
            <a:r>
              <a:rPr b="0" lang="en-US" sz="1800" spc="-1" strike="noStrike">
                <a:solidFill>
                  <a:srgbClr val="000000"/>
                </a:solidFill>
                <a:latin typeface="Arial"/>
              </a:rPr>
              <a:t>Carleton Universit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more than 6.4 million impressions from the combined circulation figures of all 22 ethnic publications over the six month period. – Jangles productions campaig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nese and South Asians are heavy consumers of in-language media Canada)  - 41 TV networks/digital stations that have some multilingual coverage, 47 radio stations that represent over 70 different ethnic groups, 195 newspapers/magazines for 44 different cultural groups, including some dailys/weeklys -Diversity Initiative Canadian Internet Use Survey, 2007 (Statistics Canad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 % of Chinese and South Asian families watch TV daily -The Multicultural Imperative - Environic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 %  Listen to radio daily -The Multicultural Imperative - Environic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 read newspapers daily- The Multicultural Imperative - Environic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09320" y="609120"/>
            <a:ext cx="63248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Employed immigrants are looking for employment inform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15328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Speak Live Evaluation:</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 of callers were Canadian Citize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opular time to visit site evening and early morning (1-3 am) (so likely that visitors mainly work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ment.or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 of settlement.org visitors have been in Canada 5 + yea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IS working paper # 79</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t of newcomers have taken up survival jobs and no information is available to them about how they can find an appropriate job. - (Lucia Lo et al, 2010: CERIS working paper # 79 (York Region acces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90560" y="304920"/>
            <a:ext cx="6095880" cy="12189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10. Women fare worse than men and they are under informe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e immigrants appeared to be more informed than female immigrants –CERIS #79</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igrant women fare worse than Canadian-born women, Canadian-born men, and immigrant men. - TIEDI Analytical Report 7</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274320"/>
            <a:ext cx="6248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Cultural demographics matter regarding media access</a:t>
            </a:r>
            <a:endParaRPr b="0" lang="en-US" sz="2000" spc="-1" strike="noStrike">
              <a:solidFill>
                <a:srgbClr val="000000"/>
              </a:solidFill>
              <a:latin typeface="Arial"/>
            </a:endParaRPr>
          </a:p>
        </p:txBody>
      </p:sp>
      <p:sp>
        <p:nvSpPr>
          <p:cNvPr id="154" name="PlaceHolder 2"/>
          <p:cNvSpPr>
            <a:spLocks noGrp="1"/>
          </p:cNvSpPr>
          <p:nvPr>
            <p:ph/>
          </p:nvPr>
        </p:nvSpPr>
        <p:spPr>
          <a:xfrm>
            <a:off x="457200" y="1752480"/>
            <a:ext cx="8229600" cy="1067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er people from East and South Asia had heard of some  service providers  in the York Region– Ceris # 79</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 descr=""/>
          <p:cNvPicPr/>
          <p:nvPr/>
        </p:nvPicPr>
        <p:blipFill>
          <a:blip r:embed="rId1"/>
          <a:stretch/>
        </p:blipFill>
        <p:spPr>
          <a:xfrm>
            <a:off x="457200" y="3200040"/>
            <a:ext cx="8229600" cy="2895480"/>
          </a:xfrm>
          <a:prstGeom prst="rect">
            <a:avLst/>
          </a:prstGeom>
          <a:ln w="0">
            <a:noFill/>
          </a:ln>
        </p:spPr>
      </p:pic>
      <p:pic>
        <p:nvPicPr>
          <p:cNvPr id="156" name="" descr=""/>
          <p:cNvPicPr/>
          <p:nvPr/>
        </p:nvPicPr>
        <p:blipFill>
          <a:blip r:embed="rId2"/>
          <a:stretch/>
        </p:blipFill>
        <p:spPr>
          <a:xfrm>
            <a:off x="762120" y="3200400"/>
            <a:ext cx="7696080" cy="2681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tural demographics matter regarding media access</a:t>
            </a:r>
            <a:endParaRPr b="0" lang="en-US" sz="2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8% of Chinese and South Asian Immigrants use the internet (above national averages) and average 1.8  hours online dai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is Diversite – Diversity Initiative</a:t>
            </a:r>
            <a:endParaRPr b="0" lang="en-US" sz="20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ian Internet Use Survey, 2007 (Statistics Can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d immigrants who found their current job through news stories, union postings, and recruitment agencies had the highest average hourly wag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d immigrants who found their current job through personal initiative, family or friends, and Canada Employment Centres had the lowest average hourly wag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 immigrants had higher wages when they found their job through the internet or by personal initiativ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migrants are more likely to have found their current jobs through sources of information resulting in lower wages (family and friends, personal initiative), than those providing access to higher wages (union postings, news stories or recruitment agenc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s who had found their current job through news stories, job fairs, the internet, Canada Employment Centres, or help wanted ads earned more than Canadian-bor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 women fare worse than Canadian-born women, Canadian-born men, and immigrant men.</a:t>
            </a:r>
            <a:endParaRPr b="0" lang="en-US" sz="1800" spc="-1" strike="noStrike">
              <a:solidFill>
                <a:srgbClr val="000000"/>
              </a:solidFill>
              <a:latin typeface="Arial"/>
            </a:endParaRPr>
          </a:p>
        </p:txBody>
      </p:sp>
      <p:sp>
        <p:nvSpPr>
          <p:cNvPr id="160" name=""/>
          <p:cNvSpPr/>
          <p:nvPr/>
        </p:nvSpPr>
        <p:spPr>
          <a:xfrm>
            <a:off x="5946480" y="5943600"/>
            <a:ext cx="274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DI Analytical Report 7</a:t>
            </a:r>
            <a:endParaRPr b="0" lang="en-US" sz="1800" spc="-1" strike="noStrike">
              <a:solidFill>
                <a:srgbClr val="000000"/>
              </a:solidFill>
              <a:latin typeface="Arial"/>
            </a:endParaRPr>
          </a:p>
        </p:txBody>
      </p:sp>
      <p:sp>
        <p:nvSpPr>
          <p:cNvPr id="161"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Employment outcomes depend on immigrant sources of employment inform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305920" cy="4648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RSD’s work in Canada portal is now on Faceboo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C uses Twitter to announce new program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C uses You Tube to market settlement information to immigra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I has a presence on Facebook, marketing Opportunities Ontario information to foreign graduate students studying in Ontari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ASI recently launched the inmylanguage.org website targeted at immigrants in 12 languag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outreach still important - important to go where newcomers ar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ASI working  with ESL instructors to integrate web content into ESL lesson pla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I will be running a CIC marketing campaign - mainly focused on some of the lesser known services that CIC funds - there will be a mini destination portal on Settlement.Or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y of Toronto recently launched the Toronto Employment &amp; Labour Market Information (TELMI) web portal, a local labour market information website and the City of Toronto Immigration &amp; Settlement Portal, for marketing settlement information to immigrant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mising approaches to  marketing settlement information to immigrants inclu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York Region immigration portal</a:t>
            </a:r>
            <a:r>
              <a:rPr b="0" lang="en-US" sz="1800" spc="-1" strike="noStrike">
                <a:solidFill>
                  <a:srgbClr val="000000"/>
                </a:solidFill>
                <a:latin typeface="Arial"/>
              </a:rPr>
              <a:t> implemented a marketing/outreach plan in June 2010, to run until December, at which time they'll evaluat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ach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ng with ethnic media with targeted, translated ad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V segments with local community/cable provider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kits for local agencies/service provider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campaigns</a:t>
            </a:r>
            <a:endParaRPr b="0" lang="en-US" sz="1800" spc="-1" strike="noStrike">
              <a:solidFill>
                <a:srgbClr val="000000"/>
              </a:solidFill>
              <a:latin typeface="Arial"/>
            </a:endParaRPr>
          </a:p>
        </p:txBody>
      </p:sp>
      <p:sp>
        <p:nvSpPr>
          <p:cNvPr id="165"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mising approaches to  marketing settlement information to immigrants inclu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Durham Region immigration portal</a:t>
            </a:r>
            <a:r>
              <a:rPr b="0" lang="en-US" sz="1800" spc="-1" strike="noStrike">
                <a:solidFill>
                  <a:srgbClr val="000000"/>
                </a:solidFill>
                <a:latin typeface="Arial"/>
              </a:rPr>
              <a:t> launched in March, 201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ing of the portal is done throug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s in 24 hours, Canadian immigrant, online, relocation guide, Goldbook (telephone book)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copy swag - USB sticks, mouse pads, pens - provided to service providers, faith communities, Boards of Trade, job fairs with employers, etc.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a portal business card has also been helpful, including providing them with card holders for service providers (very popular).</a:t>
            </a:r>
            <a:endParaRPr b="0" lang="en-US" sz="1800" spc="-1" strike="noStrike">
              <a:solidFill>
                <a:srgbClr val="000000"/>
              </a:solidFill>
              <a:latin typeface="Arial"/>
            </a:endParaRPr>
          </a:p>
        </p:txBody>
      </p:sp>
      <p:sp>
        <p:nvSpPr>
          <p:cNvPr id="167"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mising approaches to  marketing settlement information to immigrants inclu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560" y="4571640"/>
            <a:ext cx="8351640" cy="18003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initiatives could be undertaken to conduct research in these areas, in order to be able to improve the provision of employment information to un- and under-employed immigrants.</a:t>
            </a:r>
            <a:endParaRPr b="0" lang="en-US" sz="1800" spc="-1" strike="noStrike">
              <a:solidFill>
                <a:srgbClr val="000000"/>
              </a:solidFill>
              <a:latin typeface="Arial"/>
            </a:endParaRPr>
          </a:p>
        </p:txBody>
      </p:sp>
      <p:sp>
        <p:nvSpPr>
          <p:cNvPr id="169" name="PlaceHolder 1"/>
          <p:cNvSpPr>
            <a:spLocks noGrp="1"/>
          </p:cNvSpPr>
          <p:nvPr>
            <p:ph/>
          </p:nvPr>
        </p:nvSpPr>
        <p:spPr>
          <a:xfrm>
            <a:off x="457200" y="1523880"/>
            <a:ext cx="8229600" cy="2895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some information, but we don’t think that we have enough.</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light should be shed on questions lik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do immigrants get employment inform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demographics are getting their information from which sources (print, online, TV/radio)? Are they finding the right employment information at their preferred sourc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targeting (and should we be targeting) under-employed immigrants with employment inform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lu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Trends</a:t>
            </a:r>
            <a:endParaRPr b="0" lang="en-US" sz="2000" spc="-1" strike="noStrike">
              <a:solidFill>
                <a:srgbClr val="000000"/>
              </a:solidFill>
              <a:latin typeface="Arial"/>
            </a:endParaRPr>
          </a:p>
        </p:txBody>
      </p:sp>
      <p:sp>
        <p:nvSpPr>
          <p:cNvPr id="95" name="PlaceHolder 2"/>
          <p:cNvSpPr>
            <a:spLocks noGrp="1"/>
          </p:cNvSpPr>
          <p:nvPr>
            <p:ph/>
          </p:nvPr>
        </p:nvSpPr>
        <p:spPr>
          <a:xfrm>
            <a:off x="457200" y="1600200"/>
            <a:ext cx="8305920" cy="4648320"/>
          </a:xfrm>
          <a:prstGeom prst="rect">
            <a:avLst/>
          </a:prstGeom>
          <a:noFill/>
          <a:ln w="0">
            <a:noFill/>
          </a:ln>
        </p:spPr>
        <p:txBody>
          <a:bodyPr lIns="90000" rIns="90000" tIns="46800" bIns="46800" anchor="t">
            <a:normAutofit fontScale="96000"/>
          </a:bodyPr>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nd friends have continued to be a major source of employment and settlement information for immigrants</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is evolving as a key source</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anguage media is a priority channel</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r and Informal networks are important</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employment information is being channeled thru traditional media, even less thru ethnic media</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advertising is still very effective</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translated materials</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s trust ethno-cultural media</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d immigrants are looking for employment information</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 immigrants are under informed, fare worse than men</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al demographics matter regarding media access</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 employment outcomes depend on source of employment information</a:t>
            </a:r>
            <a:endParaRPr b="0" lang="en-US" sz="1800" spc="-1" strike="noStrike">
              <a:solidFill>
                <a:srgbClr val="000000"/>
              </a:solidFill>
              <a:latin typeface="Arial"/>
            </a:endParaRPr>
          </a:p>
          <a:p>
            <a:pPr marL="585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s Canada: LSIC, 2003, page 40 http://dsp-psd.pwgsc.gc.ca/Collection/Statcan/89-614-XIE/89-614-XIE2005001.pd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ills for Change Annual Report 2009/1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ole of internet-based social support networks in immigrant settlement – a case study of NewBridger, Julie Xiaoping Lin et al, 2010 http://ceris.metropolis.net/events/seminars/2010/20100115WangLinWangSemPres.pdf</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lement Programming throuogh the media, Karim H. Karim, Mahmoud Eid and Boulou Ebanda de B’beri, 2007 </a:t>
            </a:r>
            <a:r>
              <a:rPr b="0" lang="en-US" sz="1400" spc="-1" strike="noStrike">
                <a:solidFill>
                  <a:srgbClr val="000000"/>
                </a:solidFill>
                <a:latin typeface="Arial"/>
              </a:rPr>
              <a:t>http://atwork.settlement.org/sys/atwork_library_detail.asp?doc_id=1004503</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nt Immigrants’ Awareness of, Access to, Use of and Satisfaction with Settlement services in the York Region, Lucia Lo et al, 2010 CERIS working paper number 79 http://ceris.metropolis.net/Virtual%20Library/other/CWP79.pd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lement in the workplace, the settlement needs of employed newcomers, an exploratory study, R J Sparks Consulting Inc. and WGW Services, sponsored by COSTI Immigrant Services, 2001 http://atwork.settlement.org/downloads/Settlement_in_the_Workplace.pd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ersity Initiative, March 2008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of the settlement.org evaluation survey, Arnold love, June 15, 201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immigrant wages affected by the source of job search information? http://www.yorku.ca/tiedi/doc/AnalyticalReport7.pdf</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Arial"/>
            </a:endParaRPr>
          </a:p>
        </p:txBody>
      </p:sp>
      <p:sp>
        <p:nvSpPr>
          <p:cNvPr id="97" name="PlaceHolder 2"/>
          <p:cNvSpPr>
            <a:spLocks noGrp="1"/>
          </p:cNvSpPr>
          <p:nvPr>
            <p:ph/>
          </p:nvPr>
        </p:nvSpPr>
        <p:spPr>
          <a:xfrm>
            <a:off x="456840" y="1600200"/>
            <a:ext cx="3886200" cy="457200"/>
          </a:xfrm>
          <a:prstGeom prst="rect">
            <a:avLst/>
          </a:prstGeom>
          <a:noFill/>
          <a:ln w="0">
            <a:noFill/>
          </a:ln>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s Canada, LSIC, 2003</a:t>
            </a:r>
            <a:endParaRPr b="0" lang="en-US" sz="1800" spc="-1" strike="noStrike">
              <a:solidFill>
                <a:srgbClr val="000000"/>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 name=""/>
          <p:cNvGraphicFramePr/>
          <p:nvPr/>
        </p:nvGraphicFramePr>
        <p:xfrm>
          <a:off x="762120" y="2362320"/>
          <a:ext cx="7630920" cy="3595680"/>
        </p:xfrm>
        <a:graphic>
          <a:graphicData uri="http://schemas.openxmlformats.org/presentationml/2006/ole">
            <p:oleObj progId="Excel.Sheet.12" r:id="rId1" spid="">
              <p:embed/>
              <p:pic>
                <p:nvPicPr>
                  <p:cNvPr id="99" name="" descr=""/>
                  <p:cNvPicPr/>
                  <p:nvPr/>
                </p:nvPicPr>
                <p:blipFill>
                  <a:blip r:embed="rId2"/>
                  <a:stretch/>
                </p:blipFill>
                <p:spPr>
                  <a:xfrm>
                    <a:off x="762120" y="2362320"/>
                    <a:ext cx="7630920" cy="3595680"/>
                  </a:xfrm>
                  <a:prstGeom prst="rect">
                    <a:avLst/>
                  </a:prstGeom>
                  <a:ln w="0">
                    <a:noFill/>
                  </a:ln>
                </p:spPr>
              </p:pic>
            </p:oleObj>
          </a:graphicData>
        </a:graphic>
      </p:graphicFrame>
      <p:sp>
        <p:nvSpPr>
          <p:cNvPr id="100"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amily and friends have continued to be a major source of employment and settlement information for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02" name="PlaceHolder 2"/>
          <p:cNvSpPr>
            <a:spLocks noGrp="1"/>
          </p:cNvSpPr>
          <p:nvPr>
            <p:ph/>
          </p:nvPr>
        </p:nvSpPr>
        <p:spPr>
          <a:xfrm>
            <a:off x="304920" y="1600200"/>
            <a:ext cx="6248160" cy="457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kills for Change Annual Report, 2009/201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 name=""/>
          <p:cNvGraphicFramePr/>
          <p:nvPr/>
        </p:nvGraphicFramePr>
        <p:xfrm>
          <a:off x="838080" y="2209680"/>
          <a:ext cx="7450200" cy="3657600"/>
        </p:xfrm>
        <a:graphic>
          <a:graphicData uri="http://schemas.openxmlformats.org/presentationml/2006/ole">
            <p:oleObj progId="Excel.Sheet.12" r:id="rId1" spid="">
              <p:embed/>
              <p:pic>
                <p:nvPicPr>
                  <p:cNvPr id="104" name="" descr=""/>
                  <p:cNvPicPr/>
                  <p:nvPr/>
                </p:nvPicPr>
                <p:blipFill>
                  <a:blip r:embed="rId2"/>
                  <a:stretch/>
                </p:blipFill>
                <p:spPr>
                  <a:xfrm>
                    <a:off x="838080" y="2209680"/>
                    <a:ext cx="7450200" cy="3657600"/>
                  </a:xfrm>
                  <a:prstGeom prst="rect">
                    <a:avLst/>
                  </a:prstGeom>
                  <a:ln w="0">
                    <a:noFill/>
                  </a:ln>
                </p:spPr>
              </p:pic>
            </p:oleObj>
          </a:graphicData>
        </a:graphic>
      </p:graphicFrame>
      <p:sp>
        <p:nvSpPr>
          <p:cNvPr id="105"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and friends have continued to be a major source of employment and settlement information for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amily and friends have continued to be a maj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ource of employment and settlement information f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mmigrants</a:t>
            </a:r>
            <a:endParaRPr b="0" lang="en-US" sz="2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 Speak Live Evaluation – Information/Marketing Campaig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ide variety of </a:t>
            </a:r>
            <a:r>
              <a:rPr b="1" lang="en-CA" sz="1600" spc="-1" strike="noStrike">
                <a:solidFill>
                  <a:srgbClr val="000000"/>
                </a:solidFill>
                <a:latin typeface="Arial"/>
              </a:rPr>
              <a:t>advertising channels</a:t>
            </a:r>
            <a:r>
              <a:rPr b="0" lang="en-CA" sz="1600" spc="-1" strike="noStrike">
                <a:solidFill>
                  <a:srgbClr val="000000"/>
                </a:solidFill>
                <a:latin typeface="Arial"/>
              </a:rPr>
              <a:t>, including TV/Radio ads, prin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dvertising, online advertising, transit advertis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popular time to visit site evening and early morning (1-3 am) (so likel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visitors mainly work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ers to 1-800 lin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41% of referrals came from combined transit channels (buses, subway platforms, billboards, transit shelt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38% of referrals came from Metro public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 Canadian Citizens, 41% PR, 3% Refugee/Refugee Claimants, 9% Temporary Residen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ak average of 60 calls a day, 38 calls a day overall average, mainly Tuesdays to Thursday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calling on behalf of friend or spous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80880" y="1523880"/>
            <a:ext cx="3276720" cy="41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rnold Love, 2010</a:t>
            </a:r>
            <a:endParaRPr b="0" lang="en-US" sz="1800" spc="-1" strike="noStrike">
              <a:solidFill>
                <a:srgbClr val="000000"/>
              </a:solidFill>
              <a:latin typeface="Arial"/>
            </a:endParaRPr>
          </a:p>
        </p:txBody>
      </p:sp>
      <p:graphicFrame>
        <p:nvGraphicFramePr>
          <p:cNvPr id="109" name=""/>
          <p:cNvGraphicFramePr/>
          <p:nvPr/>
        </p:nvGraphicFramePr>
        <p:xfrm>
          <a:off x="990720" y="2057400"/>
          <a:ext cx="7315200" cy="4114800"/>
        </p:xfrm>
        <a:graphic>
          <a:graphicData uri="http://schemas.openxmlformats.org/presentationml/2006/ole">
            <p:oleObj progId="Excel.Sheet.12" r:id="rId1" spid="">
              <p:embed/>
              <p:pic>
                <p:nvPicPr>
                  <p:cNvPr id="110" name="" descr=""/>
                  <p:cNvPicPr/>
                  <p:nvPr/>
                </p:nvPicPr>
                <p:blipFill>
                  <a:blip r:embed="rId2"/>
                  <a:stretch/>
                </p:blipFill>
                <p:spPr>
                  <a:xfrm>
                    <a:off x="990720" y="2057400"/>
                    <a:ext cx="7315200" cy="4114800"/>
                  </a:xfrm>
                  <a:prstGeom prst="rect">
                    <a:avLst/>
                  </a:prstGeom>
                  <a:ln w="0">
                    <a:noFill/>
                  </a:ln>
                </p:spPr>
              </p:pic>
            </p:oleObj>
          </a:graphicData>
        </a:graphic>
      </p:graphicFrame>
      <p:sp>
        <p:nvSpPr>
          <p:cNvPr id="111"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ts val="1998"/>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Internet is evolving as a key source of information for immigrants</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914400" y="2209680"/>
          <a:ext cx="7315200" cy="3956040"/>
        </p:xfrm>
        <a:graphic>
          <a:graphicData uri="http://schemas.openxmlformats.org/presentationml/2006/ole">
            <p:oleObj progId="Excel.Sheet.12" r:id="rId1" spid="">
              <p:embed/>
              <p:pic>
                <p:nvPicPr>
                  <p:cNvPr id="113" name="" descr=""/>
                  <p:cNvPicPr/>
                  <p:nvPr/>
                </p:nvPicPr>
                <p:blipFill>
                  <a:blip r:embed="rId2"/>
                  <a:stretch/>
                </p:blipFill>
                <p:spPr>
                  <a:xfrm>
                    <a:off x="914400" y="2209680"/>
                    <a:ext cx="7315200" cy="3956040"/>
                  </a:xfrm>
                  <a:prstGeom prst="rect">
                    <a:avLst/>
                  </a:prstGeom>
                  <a:ln w="0">
                    <a:noFill/>
                  </a:ln>
                </p:spPr>
              </p:pic>
            </p:oleObj>
          </a:graphicData>
        </a:graphic>
      </p:graphicFrame>
      <p:sp>
        <p:nvSpPr>
          <p:cNvPr id="114" name=""/>
          <p:cNvSpPr/>
          <p:nvPr/>
        </p:nvSpPr>
        <p:spPr>
          <a:xfrm>
            <a:off x="380880" y="1523880"/>
            <a:ext cx="3048120" cy="411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rnold Love, 2010</a:t>
            </a:r>
            <a:endParaRPr b="0" lang="en-US" sz="1800" spc="-1" strike="noStrike">
              <a:solidFill>
                <a:srgbClr val="000000"/>
              </a:solidFill>
              <a:latin typeface="Arial"/>
            </a:endParaRPr>
          </a:p>
        </p:txBody>
      </p:sp>
      <p:sp>
        <p:nvSpPr>
          <p:cNvPr id="115"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is evolving as a key source of information for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nternet is evolving as a key source of information for immigrants</a:t>
            </a:r>
            <a:endParaRPr b="0" lang="en-US" sz="2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8% of Chinese and South Asian Immigrants use the internet (above national averages) and average 1.8 hours</a:t>
            </a:r>
            <a:br>
              <a:rPr sz="2000"/>
            </a:br>
            <a:r>
              <a:rPr b="0" lang="en-US" sz="2000" spc="-1" strike="noStrike">
                <a:solidFill>
                  <a:srgbClr val="000000"/>
                </a:solidFill>
                <a:latin typeface="Arial"/>
              </a:rPr>
              <a:t>online daily (also abov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ng people born in Canada, 75% used the Internet, compared with 66% of those born elsewhere. However, the rate was 78% among immigrants who arrived in Canada during the last 10 years. Most of these recent immigrants live in urban are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is Diversite – Diversity Initiative</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ian Internet Use Survey, 2007 (Statistics Can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20:13:15Z</dcterms:created>
  <dc:creator>Stephen Wilson</dc:creator>
  <dc:description/>
  <dc:language>en-US</dc:language>
  <cp:lastModifiedBy>kuziva</cp:lastModifiedBy>
  <dcterms:modified xsi:type="dcterms:W3CDTF">2010-11-01T12:52:00Z</dcterms:modified>
  <cp:revision>170</cp:revision>
  <dc:subject/>
  <dc:title>Slide 1</dc:title>
</cp:coreProperties>
</file>